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B6D-6BD2-4E2B-81B9-F9928A8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425-8DEC-4CD2-9304-B59DE96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A24-5B00-4F3F-80DB-5C6167B8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8CF-2838-4A82-AEB5-311C59BA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06B-D633-476B-8517-70E11A54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FA8-1592-47A1-9928-3ADB5D8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5C2-D07C-46B4-AF59-D0D6EA8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46E-E9D4-4D05-97D1-29AEF70C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F9B-3333-4F71-877A-5A591F4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ED1-D7C9-4668-AE15-2242809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5F6-6FB9-4D31-B0FB-86F0202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089-125F-4395-8E4F-20484C8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E4E4-2F4D-44F5-A203-18113C8A0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85800" y="4952880"/>
            <a:ext cx="8001000" cy="1600200"/>
          </a:xfrm>
          <a:custGeom>
            <a:avLst/>
            <a:gdLst>
              <a:gd name="textAreaLeft" fmla="*/ 103680 w 8001000"/>
              <a:gd name="textAreaRight" fmla="*/ 7897320 w 80010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107981" h="21600">
                <a:moveTo>
                  <a:pt x="0" y="0"/>
                </a:moveTo>
                <a:lnTo>
                  <a:pt x="107981" y="0"/>
                </a:lnTo>
                <a:lnTo>
                  <a:pt x="107981" y="21600"/>
                </a:lnTo>
                <a:lnTo>
                  <a:pt x="0" y="21600"/>
                </a:lnTo>
                <a:close/>
              </a:path>
              <a:path fill="lightenLess" w="107981" h="21600">
                <a:moveTo>
                  <a:pt x="0" y="0"/>
                </a:moveTo>
                <a:lnTo>
                  <a:pt x="107981" y="0"/>
                </a:lnTo>
                <a:lnTo>
                  <a:pt x="106581" y="1400"/>
                </a:lnTo>
                <a:lnTo>
                  <a:pt x="1400" y="1400"/>
                </a:lnTo>
                <a:close/>
              </a:path>
              <a:path fill="darken" w="107981" h="21600">
                <a:moveTo>
                  <a:pt x="107981" y="0"/>
                </a:moveTo>
                <a:lnTo>
                  <a:pt x="107981" y="21600"/>
                </a:lnTo>
                <a:lnTo>
                  <a:pt x="106581" y="20200"/>
                </a:lnTo>
                <a:lnTo>
                  <a:pt x="106581" y="1400"/>
                </a:lnTo>
                <a:close/>
              </a:path>
              <a:path fill="darkenLess" w="107981" h="21600">
                <a:moveTo>
                  <a:pt x="10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81" y="20200"/>
                </a:lnTo>
                <a:close/>
              </a:path>
              <a:path fill="lighten" w="10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Kle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28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6668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27432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8600"/>
            <a:ext cx="304776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4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5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6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7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8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0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1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2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3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4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28600" y="228600"/>
            <a:ext cx="274320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8954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58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971800" y="2590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0384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2880" y="1600200"/>
            <a:ext cx="609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539640" cy="13795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038480" y="380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2724120" cy="18306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744560" cy="3044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1728720" cy="17305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048120" y="2743200"/>
            <a:ext cx="2184120" cy="15969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53080" y="3276720"/>
            <a:ext cx="1752840" cy="127476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A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Bl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Gürt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schu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Krawa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onnenbr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29718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rId1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rId2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3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4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5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6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7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rId8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0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1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2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3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97180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0958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26668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971800" y="25146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rId7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rId8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rId9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rId10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rId11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12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305920" y="3886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05520" y="1295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1717920" cy="18176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6248520" y="3087720"/>
            <a:ext cx="2030400" cy="17035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1505160" cy="1800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6934320" y="609480"/>
            <a:ext cx="1479600" cy="9493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687760" cy="1825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95280" y="5335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3352680" y="2514600"/>
            <a:ext cx="1436760" cy="19494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Arm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Ma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Pul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Sweat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5880" y="297180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304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1680" y="382680"/>
            <a:ext cx="2209680" cy="135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33520" y="1371600"/>
            <a:ext cx="8229600" cy="3657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209680" y="2133720"/>
            <a:ext cx="48769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>
            <a:hlinkClick r:id="" action="ppaction://hlinkshowjump?jump=endshow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1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8120" y="304920"/>
            <a:ext cx="304776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91320" y="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2438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24080" y="2438280"/>
            <a:ext cx="30481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5880" y="2590920"/>
            <a:ext cx="3048120" cy="2133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752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35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878120" cy="133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1670040" cy="1749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2600" y="2514600"/>
            <a:ext cx="1841400" cy="22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657600" y="2438280"/>
            <a:ext cx="1066680" cy="239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629400" y="3505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7238880" y="2819520"/>
            <a:ext cx="1481400" cy="18349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Handta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a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ch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57400" y="11430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1600200"/>
            <a:ext cx="609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8380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1523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505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30400" cy="1874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1657080" cy="2608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00600" y="45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119240" cy="1981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33520" y="2743200"/>
            <a:ext cx="1279440" cy="1755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276720" y="2971800"/>
            <a:ext cx="1879560" cy="1733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553080" y="2590920"/>
            <a:ext cx="2095560" cy="218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848720" y="3352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990720" y="4876920"/>
            <a:ext cx="2361960" cy="76176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53" h="21600">
                <a:moveTo>
                  <a:pt x="0" y="0"/>
                </a:moveTo>
                <a:lnTo>
                  <a:pt x="66953" y="0"/>
                </a:lnTo>
                <a:lnTo>
                  <a:pt x="66953" y="21600"/>
                </a:lnTo>
                <a:lnTo>
                  <a:pt x="0" y="21600"/>
                </a:lnTo>
                <a:close/>
              </a:path>
              <a:path fill="lightenLess" w="66953" h="21600">
                <a:moveTo>
                  <a:pt x="0" y="0"/>
                </a:moveTo>
                <a:lnTo>
                  <a:pt x="66953" y="0"/>
                </a:lnTo>
                <a:lnTo>
                  <a:pt x="65553" y="1400"/>
                </a:lnTo>
                <a:lnTo>
                  <a:pt x="1400" y="1400"/>
                </a:lnTo>
                <a:close/>
              </a:path>
              <a:path fill="darken" w="66953" h="21600">
                <a:moveTo>
                  <a:pt x="66953" y="0"/>
                </a:moveTo>
                <a:lnTo>
                  <a:pt x="66953" y="21600"/>
                </a:lnTo>
                <a:lnTo>
                  <a:pt x="65553" y="20200"/>
                </a:lnTo>
                <a:lnTo>
                  <a:pt x="65553" y="1400"/>
                </a:lnTo>
                <a:close/>
              </a:path>
              <a:path fill="darkenLess" w="66953" h="21600">
                <a:moveTo>
                  <a:pt x="6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53" y="20200"/>
                </a:lnTo>
                <a:close/>
              </a:path>
              <a:path fill="lighten" w="6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Armband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8" action="ppaction://hlinksldjump"/>
          </p:cNvPr>
          <p:cNvSpPr/>
          <p:nvPr/>
        </p:nvSpPr>
        <p:spPr>
          <a:xfrm>
            <a:off x="342900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He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9" action="ppaction://hlinksldjump"/>
          </p:cNvPr>
          <p:cNvSpPr/>
          <p:nvPr/>
        </p:nvSpPr>
        <p:spPr>
          <a:xfrm>
            <a:off x="5867280" y="4876920"/>
            <a:ext cx="2362320" cy="76176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6963" h="21600">
                <a:moveTo>
                  <a:pt x="0" y="0"/>
                </a:moveTo>
                <a:lnTo>
                  <a:pt x="66963" y="0"/>
                </a:lnTo>
                <a:lnTo>
                  <a:pt x="66963" y="21600"/>
                </a:lnTo>
                <a:lnTo>
                  <a:pt x="0" y="21600"/>
                </a:lnTo>
                <a:close/>
              </a:path>
              <a:path fill="lightenLess" w="66963" h="21600">
                <a:moveTo>
                  <a:pt x="0" y="0"/>
                </a:moveTo>
                <a:lnTo>
                  <a:pt x="66963" y="0"/>
                </a:lnTo>
                <a:lnTo>
                  <a:pt x="65563" y="1400"/>
                </a:lnTo>
                <a:lnTo>
                  <a:pt x="1400" y="1400"/>
                </a:lnTo>
                <a:close/>
              </a:path>
              <a:path fill="darken" w="66963" h="21600">
                <a:moveTo>
                  <a:pt x="66963" y="0"/>
                </a:moveTo>
                <a:lnTo>
                  <a:pt x="66963" y="21600"/>
                </a:lnTo>
                <a:lnTo>
                  <a:pt x="65563" y="20200"/>
                </a:lnTo>
                <a:lnTo>
                  <a:pt x="65563" y="1400"/>
                </a:lnTo>
                <a:close/>
              </a:path>
              <a:path fill="darkenLess" w="66963" h="21600">
                <a:moveTo>
                  <a:pt x="66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3" y="20200"/>
                </a:lnTo>
                <a:close/>
              </a:path>
              <a:path fill="lighten" w="66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0" action="ppaction://hlinksldjump"/>
          </p:cNvPr>
          <p:cNvSpPr/>
          <p:nvPr/>
        </p:nvSpPr>
        <p:spPr>
          <a:xfrm>
            <a:off x="990720" y="571176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K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1" action="ppaction://hlinksldjump"/>
          </p:cNvPr>
          <p:cNvSpPr/>
          <p:nvPr/>
        </p:nvSpPr>
        <p:spPr>
          <a:xfrm>
            <a:off x="342900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2" action="ppaction://hlinksldjump"/>
          </p:cNvPr>
          <p:cNvSpPr/>
          <p:nvPr/>
        </p:nvSpPr>
        <p:spPr>
          <a:xfrm>
            <a:off x="5867280" y="571176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S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3" action="ppaction://hlinksldjump"/>
          </p:cNvPr>
          <p:cNvSpPr/>
          <p:nvPr/>
        </p:nvSpPr>
        <p:spPr>
          <a:xfrm>
            <a:off x="8305920" y="4876920"/>
            <a:ext cx="533160" cy="16002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800">
                <a:moveTo>
                  <a:pt x="0" y="0"/>
                </a:moveTo>
                <a:lnTo>
                  <a:pt x="21600" y="0"/>
                </a:lnTo>
                <a:lnTo>
                  <a:pt x="21600" y="64800"/>
                </a:lnTo>
                <a:lnTo>
                  <a:pt x="0" y="64800"/>
                </a:lnTo>
                <a:close/>
              </a:path>
              <a:path fill="lightenLess" w="21600" h="64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800">
                <a:moveTo>
                  <a:pt x="21600" y="0"/>
                </a:moveTo>
                <a:lnTo>
                  <a:pt x="21600" y="64800"/>
                </a:lnTo>
                <a:lnTo>
                  <a:pt x="20200" y="63400"/>
                </a:lnTo>
                <a:lnTo>
                  <a:pt x="20200" y="1400"/>
                </a:lnTo>
                <a:close/>
              </a:path>
              <a:path fill="darkenLess" w="21600" h="64800">
                <a:moveTo>
                  <a:pt x="21600" y="64800"/>
                </a:moveTo>
                <a:lnTo>
                  <a:pt x="0" y="64800"/>
                </a:lnTo>
                <a:lnTo>
                  <a:pt x="1400" y="63400"/>
                </a:lnTo>
                <a:lnTo>
                  <a:pt x="20200" y="63400"/>
                </a:lnTo>
                <a:close/>
              </a:path>
              <a:path fill="lighten" w="21600" h="64800">
                <a:moveTo>
                  <a:pt x="0" y="64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63400"/>
                </a:lnTo>
                <a:close/>
              </a:path>
              <a:path fill="darken" w="21600" h="64800">
                <a:moveTo>
                  <a:pt x="3794" y="25394"/>
                </a:moveTo>
                <a:lnTo>
                  <a:pt x="17806" y="32400"/>
                </a:lnTo>
                <a:lnTo>
                  <a:pt x="3794" y="394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4" action="ppaction://hlinksldjump"/>
          </p:cNvPr>
          <p:cNvSpPr/>
          <p:nvPr/>
        </p:nvSpPr>
        <p:spPr>
          <a:xfrm>
            <a:off x="380880" y="4876920"/>
            <a:ext cx="533520" cy="16002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600200"/>
              <a:gd name="textAreaBottom" fmla="*/ 1565640 h 1600200"/>
            </a:gdLst>
            <a:ahLst/>
            <a:rect l="textAreaLeft" t="textAreaTop" r="textAreaRight" b="textAreaBottom"/>
            <a:pathLst>
              <a:path w="21600" h="64756">
                <a:moveTo>
                  <a:pt x="0" y="0"/>
                </a:moveTo>
                <a:lnTo>
                  <a:pt x="21600" y="0"/>
                </a:lnTo>
                <a:lnTo>
                  <a:pt x="21600" y="64756"/>
                </a:lnTo>
                <a:lnTo>
                  <a:pt x="0" y="64756"/>
                </a:lnTo>
                <a:close/>
              </a:path>
              <a:path fill="lightenLess" w="21600" h="647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56">
                <a:moveTo>
                  <a:pt x="21600" y="0"/>
                </a:moveTo>
                <a:lnTo>
                  <a:pt x="21600" y="64756"/>
                </a:lnTo>
                <a:lnTo>
                  <a:pt x="20200" y="63356"/>
                </a:lnTo>
                <a:lnTo>
                  <a:pt x="20200" y="1400"/>
                </a:lnTo>
                <a:close/>
              </a:path>
              <a:path fill="darkenLess" w="21600" h="64756">
                <a:moveTo>
                  <a:pt x="21600" y="64756"/>
                </a:moveTo>
                <a:lnTo>
                  <a:pt x="0" y="64756"/>
                </a:lnTo>
                <a:lnTo>
                  <a:pt x="1400" y="63356"/>
                </a:lnTo>
                <a:lnTo>
                  <a:pt x="20200" y="63356"/>
                </a:lnTo>
                <a:close/>
              </a:path>
              <a:path fill="lighten" w="21600" h="64756">
                <a:moveTo>
                  <a:pt x="0" y="64756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56"/>
                </a:lnTo>
                <a:close/>
              </a:path>
              <a:path fill="darken" w="21600" h="64756">
                <a:moveTo>
                  <a:pt x="3794" y="32378"/>
                </a:moveTo>
                <a:lnTo>
                  <a:pt x="17806" y="25372"/>
                </a:lnTo>
                <a:lnTo>
                  <a:pt x="17806" y="393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2:18:05Z</dcterms:created>
  <dc:creator>Paul Widergren</dc:creator>
  <dc:description/>
  <dc:language>en-US</dc:language>
  <cp:lastModifiedBy>Paul Widergren</cp:lastModifiedBy>
  <dcterms:modified xsi:type="dcterms:W3CDTF">2004-09-19T15:24:27Z</dcterms:modified>
  <cp:revision>21</cp:revision>
  <dc:subject/>
  <dc:title>Slide 1</dc:title>
</cp:coreProperties>
</file>